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7051675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11619-6888-48CB-B539-FD8FC249B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AE1E8-340A-4733-970B-C8039EEB0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AF7FF-4655-4621-B90F-A77C39202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BB613-252A-46A8-9C71-96783432C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00191-CC79-43A3-98EE-B785EC7D0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D51A5-97B6-4FC1-926D-CAD9C8BAF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B49A7-6FED-4A4A-939C-447F12D8A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25CFE-2B56-4C12-84C7-54165F152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C706C-63FA-4DDF-841C-C19C03BA9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1D248-0AE5-46B6-8712-EC89463E8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7C78B-DA5D-41C3-B81D-E6B7100C8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7D519-BFF9-4488-98DF-EC62FE8F9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22708-4DDF-4A55-A34F-3D2B757360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apter 7:  Scatterplots, Associations, and Correl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A.P. Statisti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rrelation Propert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rrelation makes no difference between explanatory and response variabl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rrelation requires both variables to be quantitativ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ecause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uses standardized values of the observations,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does not change when we change the units of measurement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or both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rrelation Propert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sitive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ndicates positive association between the variables and a negative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ndicates negative associ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correlation is always a number between    -1 and 1.  The strength of the linear relationship increases as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oves away from 0 towards either -1 or 1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rrelation Propert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rrelation measures the strength of only a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inear relationship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ike mean and standard deviation,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s not resistant:  it is strongly affected by a few outlie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rrelation has no units.  It should not be expressed as a percentag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3" descr="F:\Art - JPEG (high-res)\CH06\figure-06-10.jpg"/>
          <p:cNvPicPr/>
          <p:nvPr/>
        </p:nvPicPr>
        <p:blipFill>
          <a:blip r:embed="rId1"/>
          <a:stretch/>
        </p:blipFill>
        <p:spPr>
          <a:xfrm>
            <a:off x="1447920" y="0"/>
            <a:ext cx="5638680" cy="65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ther Inform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orrelation is not a complete description of two variable data—even if it is a linear relationship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give the means and standard deviations of both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blem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n’t say “correlation” when you mean “association”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n’t correlate categorical dat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e sure the association is linea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eware of outlie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n’t confuse correlation with caus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tch out for lurking variabl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rrelation vs. Caus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catterplots and correlations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never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prove caus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only thing that can show causation is a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randomized controlled experimen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atterplo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0" y="1143000"/>
            <a:ext cx="3276720" cy="2676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catterplots are the best way to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tar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observing the relationship between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two quantitative variab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3" descr=""/>
          <p:cNvPicPr/>
          <p:nvPr/>
        </p:nvPicPr>
        <p:blipFill>
          <a:blip r:embed="rId2"/>
          <a:stretch/>
        </p:blipFill>
        <p:spPr>
          <a:xfrm>
            <a:off x="2971800" y="4183200"/>
            <a:ext cx="3352680" cy="267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scribing Scatterplo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Directio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ositive, Negative, non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Form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Linear, curved, cluster, et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Strength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t this point:  strong, moderate, wea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Unusual Featur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utliers, clusters with, et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scribing Scatterplo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rec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rengt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nusual Featur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3" descr=""/>
          <p:cNvPicPr/>
          <p:nvPr/>
        </p:nvPicPr>
        <p:blipFill>
          <a:blip r:embed="rId1"/>
          <a:stretch/>
        </p:blipFill>
        <p:spPr>
          <a:xfrm>
            <a:off x="4038480" y="1371600"/>
            <a:ext cx="4572000" cy="36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scribing Scatterplo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rec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rengt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nusual Featur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4114800" y="1752480"/>
            <a:ext cx="437184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ariab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Explanatory or Predictor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ttempts to explain the observed outco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laced on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ax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Response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asures an outco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laced on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ax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E LOGIC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rre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asures the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directio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trength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f the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inear relationship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tween the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wo quantitativ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variab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iven as 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762120" y="4114800"/>
                <a:ext cx="5578200" cy="121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</m:num>
                              <m:den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x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</m:nary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y</m:t>
                            </m:r>
                            <m:r>
                              <m:t xml:space="preserve">−</m:t>
                            </m:r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y</m:t>
                                </m:r>
                              </m:e>
                            </m:bar>
                          </m:num>
                          <m:den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</m:sSub>
                          </m:e>
                        </m:nary>
                      </m:num>
                      <m:den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rrelation:  Graphic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riginal d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457200" y="2743200"/>
            <a:ext cx="3567240" cy="266688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tandardized D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3" descr=""/>
          <p:cNvPicPr/>
          <p:nvPr/>
        </p:nvPicPr>
        <p:blipFill>
          <a:blip r:embed="rId2"/>
          <a:stretch/>
        </p:blipFill>
        <p:spPr>
          <a:xfrm>
            <a:off x="5334120" y="2286000"/>
            <a:ext cx="2971800" cy="34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rrelation Condi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Quantitative Variables Cond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traight Enough Cond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Outlier Cond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rt correlation with and without outli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7T01:06:37Z</dcterms:created>
  <dc:creator>fmasinmoyer</dc:creator>
  <dc:description/>
  <dc:language>en-US</dc:language>
  <cp:lastModifiedBy> </cp:lastModifiedBy>
  <dcterms:modified xsi:type="dcterms:W3CDTF">2010-02-19T06:35:52Z</dcterms:modified>
  <cp:revision>37</cp:revision>
  <dc:subject/>
  <dc:title>Chapter 7:  Scatterplots, Associations, and Correlations</dc:title>
</cp:coreProperties>
</file>